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3DF-1EDE-4B54-9031-DA8B93AE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B5B-0A08-4D5D-8B42-08B8D72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905-421C-45B3-8BDA-C30B7B19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864-53E4-4CCE-A218-AC6F6D4A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7E2-564E-44CE-AB06-868AAD4D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118-5276-4F28-B25C-9BB1E48D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898-3A87-45E0-B5A5-A54A81A7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182-63B0-45BD-82EC-28573834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1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1C3-006E-4388-A6F0-D638CE88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73D-3C6D-40CC-BFB0-EC9C2E4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8A2-127E-42F1-BE16-B434A6AF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41A-B222-4E3F-9033-C526044E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B96-93DF-4B96-9865-5DF0E0B3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867280" y="189000"/>
            <a:ext cx="2808360" cy="11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52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33cc"/>
                </a:solidFill>
                <a:latin typeface="Impact"/>
              </a:rPr>
              <a:t>Risk Management</a:t>
            </a:r>
            <a:endParaRPr b="0" lang="en-US" sz="80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Youth education outside the classroom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33cc"/>
                </a:solidFill>
                <a:latin typeface="Impact"/>
              </a:rPr>
              <a:t>Negotiation Task</a:t>
            </a:r>
            <a:endParaRPr b="0" lang="en-US" sz="40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n group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4572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ach person take 4 post it notes and write on each what they consider to be the 4 most important elements to consider when planning an EOTC event.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(1 element per post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4572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raw up a target chart with Vital/ Very important / Important and place one post it in Vital, one in V. Important, and two in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4572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Impact"/>
              </a:rPr>
              <a:t>Why use EOTC?</a:t>
            </a: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Why do we need to take students outside the school enviro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ducation outside the classroom provides students with opportunities to identify hazards, manage risks, and to take positive action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Road Safety Education, practical on road experience for students is essential to enable them to take what has been taught in the classroom and apply it in real life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eaching of Road Safety without the practical on road element is of limited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33cc"/>
                </a:solidFill>
                <a:latin typeface="Impact"/>
              </a:rPr>
              <a:t>Safety Action Plan</a:t>
            </a:r>
            <a:endParaRPr b="0" lang="en-US" sz="40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Grou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cide on an EOTC activity that might be undertaken for School Road Safety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up a table with 4 columns. Head the first column “Possible losses/damage”, list these in column one. eg. Lost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lumn two should be headed “ What could cause this to happen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lumn three “What can we do to reduce the chance of this happeni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lumn four “ What will we do if this happen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Impact"/>
              </a:rPr>
              <a:t>Previous policy</a:t>
            </a: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Safety and EOTC: Good practice guide for NZ Sch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ven when an outside provider is contracted by the school to provide services, the board of trustees is still responsible for student safety. So a teacher involved in the event should be delegated to carry out this respo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Impact"/>
              </a:rPr>
              <a:t>Process Map</a:t>
            </a: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rocess map is a simple way for PEO’s to assess what steps they need to take in an EOT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ten Safety Action Plans are not necessary for eve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04:17Z</dcterms:created>
  <dc:creator>Glen Morrison</dc:creator>
  <dc:description/>
  <dc:language>en-US</dc:language>
  <cp:lastModifiedBy>chesna</cp:lastModifiedBy>
  <dcterms:modified xsi:type="dcterms:W3CDTF">2008-10-02T21:10:37Z</dcterms:modified>
  <cp:revision>16</cp:revision>
  <dc:subject/>
  <dc:title>NZ Police Youth Education Service</dc:title>
</cp:coreProperties>
</file>